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5613A-AE68-4329-A21E-1731DFE3C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B50B2-6C65-408D-8AE5-F08DC235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029DA-6EA0-4FCD-8CE0-E591E63C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37FF9-0D73-4AB5-8045-85B33460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25DFDA-733B-4B49-8C17-6912D5F3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02960-A3CC-4BC0-94EF-6C617355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925DE-6520-4078-B919-975EAAC7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BCB0AE-A953-4D6E-BC3C-84FD866D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6BAEF-7F9A-4BC4-80F3-ED8F53DA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A9AE3-5793-4593-B61E-1EACB7BE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0B10E-6876-4FF0-928B-3415B9294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18E1E-2906-4310-BC73-287366066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ffffff"/>
                </a:solidFill>
                <a:latin typeface="Times New Roman"/>
              </a:rPr>
              <a:t>Unstructured learning in computational biology</a:t>
            </a:r>
            <a:r>
              <a:rPr b="0" lang="en-NZ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NZ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NZ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NZ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NZ" sz="1200" spc="-1" strike="noStrike">
                <a:solidFill>
                  <a:srgbClr val="ffffff"/>
                </a:solidFill>
                <a:latin typeface="Times New Roman"/>
              </a:rPr>
              <a:t>          Tony C Smi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ADD4-74F6-4908-9271-C621AF823214}" type="slidenum">
              <a:rPr b="0" lang="en-N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0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lication of Unstructured Learning in Computational Bi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ny C Smi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artment of Computer Sc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ity of Waika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tcs@cs.waikato.ac.n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ioinforma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ing ge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ing gene ro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ing protein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47680" y="3619440"/>
            <a:ext cx="386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pirical t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quence similarity compari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t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GO-KDS de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340000" y="2781360"/>
            <a:ext cx="4038480" cy="20066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189800" y="3429000"/>
            <a:ext cx="8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735600" y="3429000"/>
            <a:ext cx="10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xy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26880" y="1916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 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5280" y="404640"/>
            <a:ext cx="82296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mino Ac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95280" y="404640"/>
            <a:ext cx="82296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mino Ac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95280" y="4005360"/>
            <a:ext cx="4038480" cy="21398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648320" y="1670040"/>
            <a:ext cx="4038480" cy="43894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758520" y="350028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lyc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6520" y="24922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yros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NA encodes amino ac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116000" y="1058760"/>
            <a:ext cx="6978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411280" y="3357720"/>
            <a:ext cx="4038840" cy="9698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2411280" y="620640"/>
            <a:ext cx="4038840" cy="2006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2916360" y="4869000"/>
            <a:ext cx="279072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590400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79640" y="620640"/>
            <a:ext cx="537840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Rasmol de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iotechn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logists know proteins, computer scientists know machine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gether, they can find out a lot of hidden information about genes and prote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technology is a multi-billion dollar indu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technology is one of the best funded areas of scientific researc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ut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computers were built, mathematicians knew what they could 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ithmetic (e.g. missile trajector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rch (e.g. keys for secret cod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rt (census inform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…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thing with a mathematical algorith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32000" y="3500280"/>
            <a:ext cx="5689440" cy="244800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tificial Intellig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s do things only human brains can otherwise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692360" y="3716280"/>
            <a:ext cx="2054160" cy="20541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3780000" y="4508640"/>
            <a:ext cx="801360" cy="650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4572000" y="3645000"/>
            <a:ext cx="2054160" cy="20541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478520" y="35733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expe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86880" y="35733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expe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32000" y="3500280"/>
            <a:ext cx="5689440" cy="244800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tificial Intellig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s do things only human brains can otherwise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780000" y="4508640"/>
            <a:ext cx="801360" cy="6508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4572000" y="3645000"/>
            <a:ext cx="2054160" cy="20541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1763640" y="4221000"/>
            <a:ext cx="1625760" cy="11685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405080" y="3573360"/>
            <a:ext cx="90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expe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6880" y="35733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expe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32000" y="3500280"/>
            <a:ext cx="5689440" cy="244800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tificial Intellig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s do things only human brains can otherwise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780000" y="4508640"/>
            <a:ext cx="801360" cy="650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1763640" y="4221000"/>
            <a:ext cx="1625760" cy="11685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5219640" y="4149720"/>
            <a:ext cx="1027080" cy="1027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943600" y="3573360"/>
            <a:ext cx="99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lear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05080" y="3573360"/>
            <a:ext cx="90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expe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chine lear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ing computer programs that get better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 how to make expert judg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cover previously hidden, potentially useful information (data min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5960" y="162864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hat is machine learn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4880" y="3645000"/>
            <a:ext cx="26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How does it wor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8360" y="4149720"/>
            <a:ext cx="822960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provides learning system with examples of concept to be learn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uction algorithm infers a characteristic model of the exam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 is used to predict whether or not future novel instances are also examples – and it does this very consistently, and very, very quickly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40840" y="2195640"/>
            <a:ext cx="43761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eight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amag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irt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irmness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al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av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g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l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o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av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g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l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oft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o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g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l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oo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ight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edium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l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oo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ight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lear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lea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oo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ormal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lear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lea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oft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o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av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edium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l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o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72480" y="1562040"/>
            <a:ext cx="16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ushroom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229280" y="1917720"/>
            <a:ext cx="4698720" cy="4013280"/>
            <a:chOff x="4229280" y="1917720"/>
            <a:chExt cx="4698720" cy="4013280"/>
          </a:xfrm>
        </p:grpSpPr>
        <p:sp>
          <p:nvSpPr>
            <p:cNvPr id="196" name=""/>
            <p:cNvSpPr/>
            <p:nvPr/>
          </p:nvSpPr>
          <p:spPr>
            <a:xfrm>
              <a:off x="6654960" y="1917720"/>
              <a:ext cx="939600" cy="34272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1260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064360" y="3657600"/>
              <a:ext cx="863640" cy="330120"/>
            </a:xfrm>
            <a:prstGeom prst="rect">
              <a:avLst/>
            </a:prstGeom>
            <a:solidFill>
              <a:srgbClr val="99ff66"/>
            </a:solidFill>
            <a:ln w="1260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goo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13200" y="3568680"/>
              <a:ext cx="939960" cy="34308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1260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dir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591240" y="3619440"/>
              <a:ext cx="939960" cy="34308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1260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firmn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92640" y="5600880"/>
              <a:ext cx="863640" cy="33012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o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16600" y="2870280"/>
              <a:ext cx="888840" cy="35568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heav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362640" y="2908440"/>
              <a:ext cx="889200" cy="35532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ligh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37640" y="2870280"/>
              <a:ext cx="888840" cy="35568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norm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29280" y="4533840"/>
              <a:ext cx="888840" cy="35568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mil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308560" y="4533840"/>
              <a:ext cx="889200" cy="35568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clea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97760" y="4546440"/>
              <a:ext cx="888840" cy="35568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har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13680" y="4546440"/>
              <a:ext cx="888840" cy="35568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sof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327800" y="5575320"/>
              <a:ext cx="863640" cy="33012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o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83360" y="5587920"/>
              <a:ext cx="863280" cy="330120"/>
            </a:xfrm>
            <a:prstGeom prst="rect">
              <a:avLst/>
            </a:prstGeom>
            <a:solidFill>
              <a:srgbClr val="99ff66"/>
            </a:solidFill>
            <a:ln w="1260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goo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350040" y="5575320"/>
              <a:ext cx="863640" cy="330120"/>
            </a:xfrm>
            <a:prstGeom prst="rect">
              <a:avLst/>
            </a:prstGeom>
            <a:solidFill>
              <a:srgbClr val="99ff66"/>
            </a:solidFill>
            <a:ln w="1260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goo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308200" y="2260440"/>
              <a:ext cx="1816200" cy="1283040"/>
            </a:xfrm>
            <a:prstGeom prst="line">
              <a:avLst/>
            </a:prstGeom>
            <a:ln w="12600">
              <a:solidFill>
                <a:srgbClr val="45c984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7099200" y="2273400"/>
              <a:ext cx="12960" cy="1346040"/>
            </a:xfrm>
            <a:prstGeom prst="line">
              <a:avLst/>
            </a:prstGeom>
            <a:ln w="12600">
              <a:solidFill>
                <a:srgbClr val="45c984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12160" y="2260440"/>
              <a:ext cx="1409400" cy="1384560"/>
            </a:xfrm>
            <a:prstGeom prst="line">
              <a:avLst/>
            </a:prstGeom>
            <a:ln w="12600">
              <a:solidFill>
                <a:srgbClr val="45c984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4749840" y="3848040"/>
              <a:ext cx="482400" cy="1727280"/>
            </a:xfrm>
            <a:prstGeom prst="line">
              <a:avLst/>
            </a:prstGeom>
            <a:ln w="12600">
              <a:solidFill>
                <a:srgbClr val="45c984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19640" y="3886200"/>
              <a:ext cx="469800" cy="1701720"/>
            </a:xfrm>
            <a:prstGeom prst="line">
              <a:avLst/>
            </a:prstGeom>
            <a:ln w="12600">
              <a:solidFill>
                <a:srgbClr val="45c984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6743520" y="3936960"/>
              <a:ext cx="317160" cy="1612800"/>
            </a:xfrm>
            <a:prstGeom prst="line">
              <a:avLst/>
            </a:prstGeom>
            <a:ln w="12600">
              <a:solidFill>
                <a:srgbClr val="45c984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61040" y="3962520"/>
              <a:ext cx="673200" cy="1625400"/>
            </a:xfrm>
            <a:prstGeom prst="line">
              <a:avLst/>
            </a:prstGeom>
            <a:ln w="12600">
              <a:solidFill>
                <a:srgbClr val="45c984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ructured lear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structured lear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15840" y="1432080"/>
            <a:ext cx="7205760" cy="46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does not have fixed fields with specific val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s:  images, continuous signals, expression data,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ing proceeds by correlating the presence or absence of any and all salient attribu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ocument Class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iven examples of documents covering some topic, learn a semantic model that can recognize whether or not other documents are relev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oritize them:  i.e. quantify “how relevant” documents are to the top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limited to keywords (nor is it misled by the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apt to the user’s needs (ephemeral or long-ter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ocument classification de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03:44:03Z</dcterms:created>
  <dc:creator>Tony C Smith</dc:creator>
  <dc:description/>
  <dc:language>en-US</dc:language>
  <cp:lastModifiedBy>Tony C Smith</cp:lastModifiedBy>
  <dcterms:modified xsi:type="dcterms:W3CDTF">2003-03-11T23:37:42Z</dcterms:modified>
  <cp:revision>5</cp:revision>
  <dc:subject/>
  <dc:title>Application of Unstructured Learning in Computational Biology</dc:title>
</cp:coreProperties>
</file>