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E997B-4E92-45B1-A544-D7746509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1CBE1-8DF2-4EA6-9BA7-5C022D6E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5DACF-59F5-4F84-BCFC-10D961DF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428CE-C859-4E2B-87F7-811919CB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43B29-7A61-4209-BE0A-E23702FE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7A841-C6C3-4B90-8E5F-202DC1FB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75ED3-C9BB-40EA-B469-3F7CDBE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E2D10-2FC8-49B5-A9B6-5DA94E18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69F2A-7A32-4119-ADB0-7C6466DF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3B771-0FD9-48BC-A494-37E5BDF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F959A-9916-49C0-AE79-4679D292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ED04B-58B5-4A17-BB23-DCA77764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Unstructured learning in computational biology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          Tony C 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0B80-35FF-4DB4-BC5B-83816A32656E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tion of Unstructured Learning in Computational Bi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ny C Sm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Computer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Waik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cs@cs.waikato.ac.n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informa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ing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ing gene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ing protein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47680" y="3619440"/>
            <a:ext cx="386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irical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quence similarity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GO-KDS d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4038480" cy="2006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89800" y="3429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5600" y="3429000"/>
            <a:ext cx="10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xy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6880" y="1916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40464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ino Ac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40464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ino Ac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4005360"/>
            <a:ext cx="4038480" cy="2139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648320" y="16700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58520" y="35002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6520" y="2492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ros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ncodes amino ac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16000" y="1058760"/>
            <a:ext cx="6978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11280" y="3357720"/>
            <a:ext cx="4038840" cy="969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038840" cy="2006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916360" y="4869000"/>
            <a:ext cx="27907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590400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53784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Rasmol d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sts know proteins, computer scientists know machin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gether, they can find out a lot of hidden information about genes and 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echnology is a multi-billion dollar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echnology is one of the best funded areas of scientific r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computers were built, mathematicians knew what they could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(e.g. missile trajector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(e.g. keys for secret cod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t (census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with a mathematical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32000" y="3500280"/>
            <a:ext cx="5689440" cy="2448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ificial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do things only human brains can otherwise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780000" y="4508640"/>
            <a:ext cx="801360" cy="650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2054160" cy="2054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78520" y="35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6880" y="35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32000" y="3500280"/>
            <a:ext cx="5689440" cy="2448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ificial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do things only human brains can otherwise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780000" y="4508640"/>
            <a:ext cx="801360" cy="650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63640" y="4221000"/>
            <a:ext cx="1625760" cy="1168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05080" y="3573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6880" y="35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3500280"/>
            <a:ext cx="5689440" cy="2448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ificial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do things only human brains can otherwise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780000" y="4508640"/>
            <a:ext cx="801360" cy="65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1625760" cy="1168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219640" y="414972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943600" y="357336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5080" y="3573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chine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ng computer programs that get better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o make expert jud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over previously hidden, potentially useful information (data mi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960" y="162864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machine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4880" y="364500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ow does it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414972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provides learning system with examples of concept to be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ction algorithm infers a characteristic model of the 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is used to predict whether or not future novel instances are also examples – and it does this very consistently, and very, very quickl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0840" y="2195640"/>
            <a:ext cx="4376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mag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r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rmnes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g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g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f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g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gh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um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gh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a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a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f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um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72480" y="156204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shroom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29280" y="1917720"/>
            <a:ext cx="4698720" cy="4013280"/>
            <a:chOff x="4229280" y="1917720"/>
            <a:chExt cx="4698720" cy="4013280"/>
          </a:xfrm>
        </p:grpSpPr>
        <p:sp>
          <p:nvSpPr>
            <p:cNvPr id="196" name=""/>
            <p:cNvSpPr/>
            <p:nvPr/>
          </p:nvSpPr>
          <p:spPr>
            <a:xfrm>
              <a:off x="6654960" y="1917720"/>
              <a:ext cx="939600" cy="3427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64360" y="3657600"/>
              <a:ext cx="863640" cy="33012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13200" y="3568680"/>
              <a:ext cx="939960" cy="343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i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91240" y="3619440"/>
              <a:ext cx="939960" cy="343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irmn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92640" y="5600880"/>
              <a:ext cx="863640" cy="330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6600" y="287028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heav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62640" y="2908440"/>
              <a:ext cx="889200" cy="35532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l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37640" y="287028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9280" y="453384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il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08560" y="4533840"/>
              <a:ext cx="88920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le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97760" y="454644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h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13680" y="454644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of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27800" y="5575320"/>
              <a:ext cx="863640" cy="330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3360" y="5587920"/>
              <a:ext cx="863280" cy="33012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50040" y="5575320"/>
              <a:ext cx="863640" cy="33012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08200" y="2260440"/>
              <a:ext cx="1816200" cy="128304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099200" y="2273400"/>
              <a:ext cx="12960" cy="134604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12160" y="2260440"/>
              <a:ext cx="1409400" cy="138456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749840" y="3848040"/>
              <a:ext cx="482400" cy="172728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19640" y="3886200"/>
              <a:ext cx="469800" cy="170172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743520" y="3936960"/>
              <a:ext cx="317160" cy="161280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61040" y="3962520"/>
              <a:ext cx="673200" cy="162540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ed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structured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5840" y="1432080"/>
            <a:ext cx="720576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does not have fixed fields with specific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:  images, continuous signals, expression data,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proceeds by correlating the presence or absence of any and all salient attrib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ocument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en examples of documents covering some topic, learn a semantic model that can recognize whether or not other documents are relev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oritize them:  i.e. quantify “how relevant” documents are to the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mited to keywords (nor is it misled by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 to the user’s needs (ephemeral or long-te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cument classification d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3:44:03Z</dcterms:created>
  <dc:creator>Tony C Smith</dc:creator>
  <dc:description/>
  <dc:language>en-US</dc:language>
  <cp:lastModifiedBy>Tony C Smith</cp:lastModifiedBy>
  <dcterms:modified xsi:type="dcterms:W3CDTF">2003-03-11T23:37:42Z</dcterms:modified>
  <cp:revision>5</cp:revision>
  <dc:subject/>
  <dc:title>Application of Unstructured Learning in Computational Biology</dc:title>
</cp:coreProperties>
</file>